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C1A-F21C-4E24-982F-E49E1B0F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66A-9852-41AC-94C6-D17DBAB6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DBD-1909-41FB-8814-2E2456EE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C61-7CD8-435C-90D0-ED2B42D0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41EA-B6D2-440A-A745-61299D77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FBC-A4B9-4E6E-943D-20067A8F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0DA8-0CFB-493B-8349-D4FEFD67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CD6-9913-4CCF-90DA-C359AB31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172-1396-4F46-A2C6-3380D837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4D0-FBDE-417D-B9DF-F9B859EE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21E-775F-46D9-9D40-EF52AC32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9FF-6A1A-45B2-884C-980C8D6B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98D9-455D-404A-A074-05E622FA1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572000" cy="2756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5560" y="3276720"/>
            <a:ext cx="8937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se paintings.  In painting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pes may be a little uneven or imperfect. 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hree thin triangle shapes in the rocks  jus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ft of the water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out a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s, rectangles, triangles,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eometric shapes you can find.  Also look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ensional 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k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heres, cones, rectangular pris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410080" y="380880"/>
            <a:ext cx="320040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572000" cy="275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8280" y="3392640"/>
            <a:ext cx="841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painting would you choose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uld you choose to writ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words you might use in describing the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hos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you wr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10080" y="380880"/>
            <a:ext cx="327672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03848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Falls in Cherokee Count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William Frerichs, American, 1829-19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22” x 36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403848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“Tayloe Hou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 Francis Speight, American, 1896-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30.75” x 34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343400" cy="2617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2320" y="57913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34120" y="838080"/>
            <a:ext cx="3124080" cy="26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Eigh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41911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descriptive language, setting, oral l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udies: landforms, land use,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color, line, shape, texture, space,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72000" cy="2756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81480" y="1066680"/>
            <a:ext cx="327672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4914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5040" y="5334120"/>
            <a:ext cx="74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few minutes to study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scape pain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things you notice about the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333760" cy="321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4040" y="3886200"/>
            <a:ext cx="804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 you think this scen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Tell w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f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 fea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identif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predict abou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paint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4480" y="115920"/>
            <a:ext cx="68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spend a few minutes looking at this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 this paint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121440" cy="51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9720" y="293760"/>
            <a:ext cx="761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could we find a scene that looks li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pain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7280" y="1066680"/>
            <a:ext cx="4079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pa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have you see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at looks simila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rop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ield?  How can you t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19076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4572000" cy="2756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think about how the artists created these pain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2360" y="4114800"/>
            <a:ext cx="782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describe how each artist us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each artist giv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ens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describe how the artists show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ts, rocks, and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57800" y="1066680"/>
            <a:ext cx="327672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572000" cy="2755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ce how each artist used value in their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3400" y="4078440"/>
            <a:ext cx="8007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s how dark or light each area loo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oint out the very dark (high value) areas in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the lightest (low value) areas in each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4120" y="1109520"/>
            <a:ext cx="327636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572000" cy="2756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429000"/>
            <a:ext cx="853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 you se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ach of these painting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straight, curved, broken, and uneven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 are sometimes seen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s or edges of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d marks, shapes or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, roads, fences, r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10080" y="380880"/>
            <a:ext cx="3276720" cy="2752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2:44:13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